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EFE-5000-47F8-AB45-49AABF62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9E1-4D09-4FD6-8F45-E750FA15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FE8-7DBD-4DEF-857F-2CD62038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D71-372E-48FD-8409-8EE75D43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61E2-5E40-45FC-8EBA-3D9F791E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0AA1-EED7-4456-B150-203E9C5B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7FDC-59FA-40FA-8D6C-FBAA3510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D1DF-A69B-493B-9D37-6A469FAB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6BEA-8C18-410B-9643-F51C670E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9970-A923-452E-B07A-7B01977D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3600-8691-49B1-B80F-C230AF5C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973-A046-4914-B7B0-FE3D517B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7EB8-5E61-470C-BE73-B8C997F6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F09A-34F3-4FA5-95B7-660DDF46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AD60-ABE2-46B3-A69F-4E358484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DA0A-4E22-4636-89D5-E5486EEB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0ED4-C8D3-4E47-98EE-2B42F739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1EB-39E9-4010-828B-226D4680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7E1-8F70-4FEB-98D4-72FFA83F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F47-A78D-47BA-B2DC-B55E123A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26D-E842-4E1A-BC6A-B1C289F3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B79-F770-4A59-A058-AA5FE808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EE6-23EB-49DF-8A62-0D01B752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1D8-205D-4DEE-9925-D8B82707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52B4-77A6-4AE2-973A-D2AD2B833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11A0-EF16-49EB-A49E-90107CC95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DI 2008 Topic Lectur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Economics: Fossil Fuels and Alternativ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Kathryn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887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obal Oil P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36920" y="1981080"/>
            <a:ext cx="504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pply and Dem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93760" y="1981080"/>
            <a:ext cx="593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pply and Dem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9360" y="1981080"/>
            <a:ext cx="433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elastic and Elastic Dema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36640" y="1981080"/>
            <a:ext cx="66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arket Fail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73240" y="2527200"/>
            <a:ext cx="77724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terna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90720" y="1981080"/>
            <a:ext cx="4535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 Energy Consumpt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440" y="1981080"/>
            <a:ext cx="6534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 Energy Policy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49600" y="1981080"/>
            <a:ext cx="661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obal Energy Consumpt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05000" y="1981080"/>
            <a:ext cx="390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arbon Content of Fossil Fue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4880" y="1981080"/>
            <a:ext cx="4027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uture Energy Projec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0204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sumption by Secto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987640" y="1981080"/>
            <a:ext cx="4143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obal Fossil Fuel P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60560" y="1981080"/>
            <a:ext cx="6197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lobal Coal P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73240" y="2104920"/>
            <a:ext cx="7772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8:26:09Z</dcterms:created>
  <dc:creator>Kathryn Clark</dc:creator>
  <dc:description/>
  <dc:language>en-US</dc:language>
  <cp:lastModifiedBy>Kathryn Clark</cp:lastModifiedBy>
  <dcterms:modified xsi:type="dcterms:W3CDTF">2008-07-15T01:18:10Z</dcterms:modified>
  <cp:revision>8</cp:revision>
  <dc:subject/>
  <dc:title>Topic Lecture 1</dc:title>
</cp:coreProperties>
</file>